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.wmf" ContentType="image/x-wmf"/>
  <Override PartName="/ppt/media/image2.png" ContentType="image/png"/>
  <Override PartName="/ppt/media/image1.png" ContentType="image/png"/>
  <Override PartName="/ppt/media/image14.png" ContentType="image/png"/>
  <Override PartName="/ppt/media/image27.wmf" ContentType="image/x-wmf"/>
  <Override PartName="/ppt/media/image16.png" ContentType="image/png"/>
  <Override PartName="/ppt/media/image26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E846-D245-497D-95CF-4E67D9FC0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y PMF probability mass function – if you think of probability as a physical weight – and the x axis as the position, then computing E[x] is like computing where the center of mass will be on the x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AA1-9CE1-4CE8-AF93-6A3E668D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E2C7-2A19-4FFD-955F-48BEEA65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A8D-943E-4406-A18B-BCA2F4B2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28E6-09D0-4D50-8BD7-4EA2627F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3B1-0189-42A2-8B58-F1974EF8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450-FFFA-4970-93A8-831015CE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E06F-3C67-4969-99CB-F225EB6C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1EE-2B68-424E-A329-AEB1C438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32B-F002-4495-8148-E89270BE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786A-A37E-47B8-86C4-D2124F0B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651-9C47-4C90-8D80-FB1EFEE3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254-B966-4F9F-8F77-F2D2EAB2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617E-FA2F-4FB7-83C0-41577D3B9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Random Variabl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92280" y="460440"/>
            <a:ext cx="46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nomial Random Variable 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File:Binomial distribution pmf.svg"/>
          <p:cNvPicPr/>
          <p:nvPr/>
        </p:nvPicPr>
        <p:blipFill>
          <a:blip r:embed="rId1"/>
          <a:stretch/>
        </p:blipFill>
        <p:spPr>
          <a:xfrm>
            <a:off x="4572000" y="1066680"/>
            <a:ext cx="4133880" cy="2752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File:Binomial distribution cdf.svg"/>
          <p:cNvPicPr/>
          <p:nvPr/>
        </p:nvPicPr>
        <p:blipFill>
          <a:blip r:embed="rId2"/>
          <a:stretch/>
        </p:blipFill>
        <p:spPr>
          <a:xfrm>
            <a:off x="4495680" y="392436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018200" y="3581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8200" y="6643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9960" y="130968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M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8640" y="39765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D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68040" y="2438280"/>
            <a:ext cx="238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X) =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(X) = np(1-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F(x;n,p) = \Pr(X \le x) = \sum_{i=0}^{\lfloor x \rfloor} {n\choose i}p^i(1-p)^{n-i}."/>
          <p:cNvPicPr/>
          <p:nvPr/>
        </p:nvPicPr>
        <p:blipFill>
          <a:blip r:embed="rId3"/>
          <a:stretch/>
        </p:blipFill>
        <p:spPr>
          <a:xfrm>
            <a:off x="438120" y="5181480"/>
            <a:ext cx="3753000" cy="514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 f(k;n,p) = \Pr(K = k) = {n\choose k}p^k(1-p)^{n-k}"/>
          <p:cNvPicPr/>
          <p:nvPr/>
        </p:nvPicPr>
        <p:blipFill>
          <a:blip r:embed="rId4"/>
          <a:stretch/>
        </p:blipFill>
        <p:spPr>
          <a:xfrm>
            <a:off x="457200" y="1752480"/>
            <a:ext cx="345744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90480" y="46044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ometric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1066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osses: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heads: 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number of tosses until you get 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451240" y="5943600"/>
            <a:ext cx="5321160" cy="495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540160" y="4435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540160" y="329220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43000" y="2987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18600" y="42210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39120" y="3673440"/>
            <a:ext cx="9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3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82160" y="4511520"/>
            <a:ext cx="912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1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08480" y="4435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08480" y="329220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11320" y="2987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86920" y="42210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32920" y="3673440"/>
            <a:ext cx="1109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3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55880" y="4511520"/>
            <a:ext cx="1178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|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1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43080" y="2682720"/>
            <a:ext cx="128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T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H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12/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17520" y="2666880"/>
            <a:ext cx="1099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H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48/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11720" y="4435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111720" y="329220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14920" y="2987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90520" y="42210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79640" y="3673440"/>
            <a:ext cx="1275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3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65600" y="4511520"/>
            <a:ext cx="1344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|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1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1720" y="2682720"/>
            <a:ext cx="1382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T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T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H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3/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3320" y="2475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=3)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5440" y="4876920"/>
            <a:ext cx="269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zed Experi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osses: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heads: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 = k)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60800" y="460440"/>
            <a:ext cx="48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ometric Random Variable 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715000" y="685800"/>
            <a:ext cx="6629400" cy="4038480"/>
            <a:chOff x="5715000" y="685800"/>
            <a:chExt cx="6629400" cy="4038480"/>
          </a:xfrm>
        </p:grpSpPr>
        <p:pic>
          <p:nvPicPr>
            <p:cNvPr id="268" name="" descr="File:Geometric pmf.svg"/>
            <p:cNvPicPr/>
            <p:nvPr/>
          </p:nvPicPr>
          <p:blipFill>
            <a:blip r:embed="rId1"/>
            <a:stretch/>
          </p:blipFill>
          <p:spPr>
            <a:xfrm>
              <a:off x="5715000" y="1218960"/>
              <a:ext cx="64292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8915400" y="685800"/>
              <a:ext cx="3429000" cy="403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89960" y="130968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M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8640" y="39765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D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 f(k;n,p) = \Pr(K = k) = {n\choose k}p^k(1-p)^{n-k}"/>
          <p:cNvPicPr/>
          <p:nvPr/>
        </p:nvPicPr>
        <p:blipFill>
          <a:blip r:embed="rId2"/>
          <a:stretch/>
        </p:blipFill>
        <p:spPr>
          <a:xfrm>
            <a:off x="457200" y="1752480"/>
            <a:ext cx="3457440" cy="486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F(x;n,p) = \Pr(X \le x) = \sum_{i=0}^{\lfloor x \rfloor} {n\choose i}p^i(1-p)^{n-i}."/>
          <p:cNvPicPr/>
          <p:nvPr/>
        </p:nvPicPr>
        <p:blipFill>
          <a:blip r:embed="rId3"/>
          <a:stretch/>
        </p:blipFill>
        <p:spPr>
          <a:xfrm>
            <a:off x="533520" y="4572000"/>
            <a:ext cx="3752640" cy="5144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523880" y="4572000"/>
            <a:ext cx="3429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1676520"/>
            <a:ext cx="3429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(1 - p)^{k-1}\,p\!"/>
          <p:cNvPicPr/>
          <p:nvPr/>
        </p:nvPicPr>
        <p:blipFill>
          <a:blip r:embed="rId4"/>
          <a:stretch/>
        </p:blipFill>
        <p:spPr>
          <a:xfrm>
            <a:off x="1523880" y="1905120"/>
            <a:ext cx="933480" cy="2188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1-(1 - p)^k\!"/>
          <p:cNvPicPr/>
          <p:nvPr/>
        </p:nvPicPr>
        <p:blipFill>
          <a:blip r:embed="rId5"/>
          <a:stretch/>
        </p:blipFill>
        <p:spPr>
          <a:xfrm>
            <a:off x="1676520" y="4724280"/>
            <a:ext cx="961920" cy="219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Geometric cdf.svg"/>
          <p:cNvPicPr/>
          <p:nvPr/>
        </p:nvPicPr>
        <p:blipFill>
          <a:blip r:embed="rId6"/>
          <a:stretch/>
        </p:blipFill>
        <p:spPr>
          <a:xfrm>
            <a:off x="5791320" y="4257720"/>
            <a:ext cx="6095880" cy="26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8839080" y="4267080"/>
            <a:ext cx="342900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\frac{1-p}{p^2}\!"/>
          <p:cNvPicPr/>
          <p:nvPr/>
        </p:nvPicPr>
        <p:blipFill>
          <a:blip r:embed="rId7"/>
          <a:stretch/>
        </p:blipFill>
        <p:spPr>
          <a:xfrm>
            <a:off x="2400480" y="3200400"/>
            <a:ext cx="419040" cy="4287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\frac{1}{p}\!"/>
          <p:cNvPicPr/>
          <p:nvPr/>
        </p:nvPicPr>
        <p:blipFill>
          <a:blip r:embed="rId8"/>
          <a:stretch/>
        </p:blipFill>
        <p:spPr>
          <a:xfrm>
            <a:off x="1600200" y="2514600"/>
            <a:ext cx="104760" cy="4287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762840" y="251460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X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4280" y="320040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(X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10640" cy="26449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6566040" cy="524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371600" y="4719600"/>
            <a:ext cx="36576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81880" cy="61563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04920" y="556272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64040" y="460440"/>
            <a:ext cx="50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dependence of Random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66720" y="1371600"/>
            <a:ext cx="7105680" cy="866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09480" y="3871800"/>
            <a:ext cx="5626080" cy="484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95360" y="4303800"/>
            <a:ext cx="7810560" cy="6490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609480" y="5257800"/>
            <a:ext cx="8153640" cy="6444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609480" y="3040200"/>
            <a:ext cx="784872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59360" y="46044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me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4880" y="1143000"/>
            <a:ext cx="599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it mean for 2 experiments to be independ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0160" y="1995480"/>
            <a:ext cx="70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derive the properties of binomial random variables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noulli random variabl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920" y="460440"/>
            <a:ext cx="599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ther 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 PMFs of more than one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 conditional P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3209760" cy="3657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3808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attribute of an experimental out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787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533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bability Mass Function (PM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523880"/>
          <a:ext cx="518004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518004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321012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80880"/>
            <a:ext cx="8229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unctions of Random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4*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H – E(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          1 if H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if H &gt;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0" y="2666880"/>
            <a:ext cx="78732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28800" y="2286000"/>
            <a:ext cx="533520" cy="609480"/>
          </a:xfrm>
          <a:custGeom>
            <a:avLst/>
            <a:gdLst>
              <a:gd name="textAreaLeft" fmla="*/ 340920 w 533520"/>
              <a:gd name="textAreaRight" fmla="*/ 533880 w 5335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533520"/>
            <a:ext cx="822960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ed average of all possible out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[x]  = ∑ [ x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57400"/>
            <a:ext cx="822960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the spread of the PMF around the expected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(X – E(X)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E(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4114800"/>
            <a:ext cx="3809880" cy="65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43680" y="4049640"/>
            <a:ext cx="384804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60640" y="1447920"/>
            <a:ext cx="3210120" cy="3657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38088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unctions of Random Variables 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Y =         1 if h &lt;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0 if h &gt;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(H) = 1.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(Y)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365960" y="1600200"/>
            <a:ext cx="787320" cy="3429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47920" y="1371600"/>
            <a:ext cx="533160" cy="609480"/>
          </a:xfrm>
          <a:custGeom>
            <a:avLst/>
            <a:gdLst>
              <a:gd name="textAreaLeft" fmla="*/ 340560 w 533160"/>
              <a:gd name="textAreaRight" fmla="*/ 533520 w 5331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799160"/>
            <a:ext cx="701064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 for any var.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unc. g(X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 = g(X): E(Y) = ∑ [ g(X)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400800" y="68580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429240" y="700200"/>
            <a:ext cx="885960" cy="823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93720" y="46044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rnoulli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7280" y="10666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:  Toss coin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26668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1828800"/>
            <a:ext cx="16002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2133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62160" y="30081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2760" y="3048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980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39760" y="2286000"/>
            <a:ext cx="3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0080" y="199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8200" y="3809880"/>
            <a:ext cx="55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xperiments with 2 possible outcome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s a person healthy or si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o you like a song on pandora.c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ill event A occur or no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8840" y="1941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48480" y="1919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9200" y="18651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296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33560" y="41148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=1) =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33560" y="451008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=0) = 1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92640" y="460440"/>
            <a:ext cx="46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rnoulli Random Variable 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705720" y="838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666880"/>
            <a:ext cx="156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6440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1880" y="30081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37240" y="3048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042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7280" y="10666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:  Toss coin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1371600"/>
            <a:ext cx="22860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2286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58360" y="79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74320" y="1843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8560" y="18432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M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56480" y="27795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X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35240" y="3519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(X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11840" y="27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5560" y="35193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1-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4960" y="4205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D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705720" y="397656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5805360"/>
            <a:ext cx="156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4400" y="56530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01880" y="61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37240" y="61866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504280" y="5653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4114800"/>
            <a:ext cx="228600" cy="1690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5424480"/>
            <a:ext cx="2286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58360" y="393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74320" y="49816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06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93360" y="460440"/>
            <a:ext cx="37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nomial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33960" y="700200"/>
            <a:ext cx="885960" cy="823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315200" y="68580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7343640" y="700200"/>
            <a:ext cx="885960" cy="823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0200" y="1019160"/>
            <a:ext cx="273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osses: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heads: 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number of 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91120" y="344016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603108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934320" y="229680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2400" y="23734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2760" y="2155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40320" y="28954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40680" y="26780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40320" y="3429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4068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40320" y="39625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40680" y="3745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40320" y="45068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40680" y="4289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40320" y="51055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40680" y="4888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40320" y="56498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40680" y="5432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40320" y="62485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40680" y="6031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244944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31200" y="23083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34320" y="281916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34320" y="29718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30840" y="28306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934320" y="3363840"/>
            <a:ext cx="272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351648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31200" y="3375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934320" y="389700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404964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30840" y="39085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934320" y="441936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45720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31200" y="4430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934320" y="502884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1814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30840" y="5040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934320" y="557352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572616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31200" y="5584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934320" y="617184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63244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30840" y="6183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248520" y="57258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37120" y="58784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488808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248520" y="45828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37480" y="47354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0120" y="3821040"/>
            <a:ext cx="372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180120" y="351648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8720" y="36687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754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248520" y="2449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37480" y="2602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181480" y="2830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336384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0240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181480" y="496404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549756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02040" y="53452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4430880"/>
            <a:ext cx="60948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83120" y="2133720"/>
            <a:ext cx="6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H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86000" y="236232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H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98600" y="266688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H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98240" y="28954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H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98600" y="320040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98240" y="342900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98240" y="373392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97880" y="396252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86000" y="426708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88880" y="44956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01480" y="487692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700760" y="510552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01480" y="54100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00760" y="563868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00760" y="601992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700400" y="624852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3640" y="476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7600" y="4038480"/>
            <a:ext cx="269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zed Experi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osses: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heads: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6120" y="542592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 = k)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9400" y="24382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=2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9400" y="26812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=3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75360" y="3519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68880" y="5043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11880" y="2666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11880" y="3657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8360" y="4800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9432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6172200" y="68580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6200640" y="700200"/>
            <a:ext cx="885960" cy="823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8458200" y="68580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8486640" y="700200"/>
            <a:ext cx="885960" cy="823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620000" y="58690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 C k)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-p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41520" y="2438280"/>
            <a:ext cx="33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x (¾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¼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7/128 = 0.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36480" y="2681280"/>
            <a:ext cx="34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x (¾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¼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8/256 = 0.4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56440" y="6248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65920" y="633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80120" y="22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65920" y="1981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458200" y="2971800"/>
            <a:ext cx="15228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458200" y="3809880"/>
            <a:ext cx="152280" cy="152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458200" y="4952880"/>
            <a:ext cx="152280" cy="152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458200" y="4572000"/>
            <a:ext cx="15228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458200" y="5486400"/>
            <a:ext cx="15228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58200" y="3505320"/>
            <a:ext cx="15228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22:18:49Z</dcterms:created>
  <dc:creator>Ben</dc:creator>
  <dc:description/>
  <dc:language>en-US</dc:language>
  <cp:lastModifiedBy>Ben</cp:lastModifiedBy>
  <dcterms:modified xsi:type="dcterms:W3CDTF">2010-12-01T03:25:42Z</dcterms:modified>
  <cp:revision>150</cp:revision>
  <dc:subject/>
  <dc:title>Discrete Random Variables 2</dc:title>
</cp:coreProperties>
</file>